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3DB-BA64-4115-B855-6F78994F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103-9D26-4F78-847B-C46AE5F1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61D-DCCD-4CF3-B94F-26B231DF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F18-6BEE-4D28-82FB-C0C389B2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5E81-1FB1-4EF4-8A67-5370D873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168E-7D0B-4CC7-B42E-B559042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FFD3-7727-45F3-BCDC-55629E4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F7F2-9003-465D-A5BD-F80B9568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355E-B96A-4818-B382-D2D2EA65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5854-0166-46C3-BDDC-AF5ED4A9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F2EF-C26E-4FFF-BF24-998EBBFC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593-95D3-4720-9F6C-81879D89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E16C-7083-47AE-BCC1-F1DE0AE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BDC4-DEE8-42F8-A501-54A71735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A9CB-60EA-432B-B88F-085EE6C6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988-D2F7-4959-8411-FC79C5B8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1A4A-1BC0-4DD4-AB4B-5228A99C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97C-E269-4FC1-B055-3C26FF5C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510-3A76-4757-8FC5-CEE1DD64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9EE-A639-466C-AE3D-C5066FFE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821-4193-4E14-9CF5-821B71F9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8C9-F728-476F-A2E9-171764F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E72-038D-4DA4-8069-964DFA4A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AEA-920C-47EF-A029-D278D86E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2E3-4A02-4E1F-93DB-AA21D56539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217-B1E6-444E-918D-2DCFB2D390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dexmundi.com/turkey/government%20type.html" TargetMode="External"/><Relationship Id="rId3" Type="http://schemas.openxmlformats.org/officeDocument/2006/relationships/hyperlink" Target="http://www.turk-ay-yildiz.de/turkiye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ras Bold ITC"/>
              </a:rPr>
              <a:t>Welcome T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Danielle &amp; Ga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s Cit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indexmundi.com/turkey/government type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turk-ay-yildiz.de/turkiye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ia.gov/library/publications/the-world-factbook/geos/tu.htm#Peo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allaboutturkey.com/troy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turizm.net/turkey/tips/storyfood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allaboutturkey.com/mutfak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news.bbc.co.uk/2/hi/uk_news/england/7871826.s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784872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he L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rkey is located between the continents of Asia, Africa and Europ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borders the Black Sea and the Mediterranean Se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ize of Turkey is slightly larger than Tex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regions are divided into the Black Sea &amp; the Mediterranean regions, having different landfor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L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rain: high central plateau; narrow coastal pla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rkey is geographically part of the Alpine belt; it contains many mountain ran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resources include coal, iron ore, gold, limestone, marble, pumice, &amp; cla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key ha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Verdana"/>
              </a:rPr>
              <a:t>hot, dry summer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mild, wet win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diterranean region consists of trees like pines, oaks, cedars, &amp; chestnuts.  Other areas are treeless, with limited gr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96252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81024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mate/ Vege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fe expectancy is about 70 years o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 of government: Republican Parliamentary Democrac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resident of the Republic is Abdullah Gu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pula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1,892,80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27432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 &amp; Current Ev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66ff"/>
                </a:solidFill>
                <a:latin typeface="Verdana"/>
              </a:rPr>
              <a:t>                                      </a:t>
            </a:r>
            <a:r>
              <a:rPr b="1" lang="en-US" sz="1900" spc="-1" strike="noStrike" u="sng">
                <a:solidFill>
                  <a:srgbClr val="cc66ff"/>
                </a:solidFill>
                <a:uFillTx/>
                <a:latin typeface="Verdana"/>
              </a:rPr>
              <a:t>His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WWI, Turkey sided with Germany &amp; ended up losing territory as a resul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first president, Kemal Ataturk, secularized the Turkish society. He reduced Islam’s dominant role, replacing Arabic with the Latin alphabet for writing the Turkish languag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Verdana"/>
              </a:rPr>
              <a:t>~Current Event~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urkish Producer, Bernard Matthews, wants to make wind turbines to create energy. His company wants to produce 10% of its own electricity, but the local people opposed the idea because of the size &amp; location of the turbines. Matthews eventually wants to place 2 in Engl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Turkey is an upper middle-income econom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Major agricultural products are wheat, tobacco, cotton, sugar &amp; olive oi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Verdana"/>
              </a:rPr>
              <a:t>Important industries: steel, petroleum, iron, cars &amp; processed food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Major exports&gt;&gt; Articles of Apparel and Clothing Accessories, Pearls and Precious Ston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Imports&gt;&gt; Machinery and Mechanical Appliances, Optical and Photographic Instruments, Electrical Machinery and Equipment, Pharmaceutical Products, Aircraft Spacecraft and Par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Verdana"/>
              </a:rPr>
              <a:t>87% of adults (age 15+) can read &amp; w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urrency in Turkey: coin &amp; paper money, called Li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0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181480" y="5334120"/>
            <a:ext cx="35816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Traditional clothing          Language spoken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Turkish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3200" y="2438280"/>
            <a:ext cx="2500200" cy="365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33920" y="2438280"/>
            <a:ext cx="47242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Foods: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mb is the staple of the Turkish kitchen. Black Sea region eats fish &amp; rice. Baklava is a popular des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Religions practiced: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99% of the population is Muslim. 1% is Christian &amp; Je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Architecture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The tombs are vault-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3 types of Mosques are single dome, subline, and ti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ny old buildings are being converted into hotels &amp; restaur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Verdana"/>
              </a:rPr>
              <a:t>The Aegean Coa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e archaeological sites, beautiful beaches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eat scenery, and a host of towns are excellent destin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743200"/>
            <a:ext cx="716292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Verdana"/>
              </a:rPr>
              <a:t>Cappado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ystical, rock chimney dwellings, and man-made cave based cities in Eastern Tur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Verdana"/>
              </a:rPr>
              <a:t>Ephes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e of the best archaeological sites in the world, Ephesus is well p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3353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29:52Z</dcterms:created>
  <dc:creator>daniellenaikins</dc:creator>
  <dc:description/>
  <dc:language>en-US</dc:language>
  <cp:lastModifiedBy>daniellenaikins</cp:lastModifiedBy>
  <dcterms:modified xsi:type="dcterms:W3CDTF">2009-02-19T17:44:49Z</dcterms:modified>
  <cp:revision>12</cp:revision>
  <dc:subject/>
  <dc:title>Welcome To</dc:title>
</cp:coreProperties>
</file>